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6187-9B37-4085-A925-BDEDD8AC0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93834-2DD3-4AD0-8E63-14891A838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A510E-95BD-4026-AE3F-954E5FA66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DD61-773B-4653-84F6-F2261007F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5E6-191D-4C32-A2FB-ECDF16C3C0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5E7-9704-4A66-95B2-EC460B472B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3A02-7C4A-43AF-AA6A-B8C3939CE3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CD13-B4FD-4030-858B-D2D1749114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86B-030D-4A10-90C1-7DB8EAD3F2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B7F7-7857-4BB9-A269-6DBC407F43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4616-8BCC-4875-9664-AEA1629556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6D11-01ED-4C7D-9595-2F3815BED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45E4-BD00-4252-8503-1E47373B01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70C-A175-4CED-A0E0-D74DCF1D26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8F1E-A27B-4F79-B5D1-D2FD5AA567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800F-0EE1-4E27-8997-1A8E50BFC9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E63A-6E71-445E-9B63-A6240C46CE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46BB0-7921-447E-AB96-38B66BDD5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52A35-EA27-4B58-9A53-C04150EDD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7D34F-C11D-4AC0-BE2A-091483745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C992F-7649-46CD-856A-461B2EF2D6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FEA51-03E0-4EAF-B4DC-D83C61F02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0309-F2E2-43CF-AEE1-BFB1E22DE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8D992-E85C-44F8-A1CD-FAE9B48AC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6DDF-C068-4968-BE35-4BEB64885DB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wdc2002_46860" descr="14"/>
          <p:cNvPicPr/>
          <p:nvPr/>
        </p:nvPicPr>
        <p:blipFill>
          <a:blip r:embed="rId2"/>
          <a:stretch/>
        </p:blipFill>
        <p:spPr>
          <a:xfrm>
            <a:off x="4937040" y="6318360"/>
            <a:ext cx="420696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E54B-830B-4A9F-8497-D7ED2BE977E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wdc2002_46860" descr="14"/>
          <p:cNvPicPr/>
          <p:nvPr/>
        </p:nvPicPr>
        <p:blipFill>
          <a:blip r:embed="rId2"/>
          <a:stretch/>
        </p:blipFill>
        <p:spPr>
          <a:xfrm>
            <a:off x="1295280" y="152280"/>
            <a:ext cx="6400800" cy="819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ro to Flash MX ActionScript and Server Communic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an Robbi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an@dubane.co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ying it all Togethe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 to Flash MX/Homesite/Brows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sources - Flas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ts of Book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pecial Edition Using Flash MX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lash MX ActionScript for Fun &amp; Gam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iling Lis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lashcoders – http://chattyfig.figleaf.com/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bsi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ttp://www.were-here.com/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sources - PHP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bsi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ttp://www.php.net/ - THE resource for PHP development.  PERIOD!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ttp://www.phpbuilder.net/ - Also a good PHP si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eyond WebDevC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wnload all the files her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ttp://www.dubane.com/cons/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anks for coming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We Will Do Toda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tro to ActionScri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mple PHP for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ying it all toget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ypical Data Driven Sit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43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e ASP/Perl/PHP/etc to access datab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e scripts to create HTM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nd HTML to user for displa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user wants a different view re-submit and server creates new displa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lash Data Driven Si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51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e ASP/Perl/PHP/etc to access da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cripts format data into Flash readable for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nd data to client machin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ent then formats data for displa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user wants a different view, usually the client creates without contacting the serv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mparis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rver must create HTM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st re-contact server for new view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sign for Least Common Denominato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 plug-ins need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rver only sends da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ually don’t need to re-contact serv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sign for Flash, looks the same everywhe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er must have Flas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ro to ActionScrip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 to Flash M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nding Data w/ ActionScrip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 to Flash M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ceiving Data w/ ActionScrip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imple PHP For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 to Homesi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4:12:53Z</dcterms:created>
  <dc:creator>Charlie Bass</dc:creator>
  <dc:description/>
  <dc:language>en-US</dc:language>
  <cp:lastModifiedBy>Stephanie Titony</cp:lastModifiedBy>
  <dcterms:modified xsi:type="dcterms:W3CDTF">2002-11-22T00:45:14Z</dcterms:modified>
  <cp:revision>15</cp:revision>
  <dc:subject/>
  <dc:title>PowerPoint Presentation</dc:title>
</cp:coreProperties>
</file>