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F548F-879F-4D75-8402-11045B759A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61613-AA6E-4ED0-B2D2-63E64D494F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CA672-106B-4EB5-BC05-2805B699D6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FF9BD-4B38-4957-973C-0F3AC337D5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B270-2137-4464-861C-8E2E65443C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50A3-57EE-4AE0-BA81-A7719AB372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A2E1-7101-4E09-90F0-5AA7FCCE9C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51A7-C33B-498D-B3A3-C66D195F22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338D-7D08-4C34-9736-C9DD52DD3A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1F02-1FC6-427A-8E7B-BEC5EEECC8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E42D-D307-4D76-95C6-8F1D108F96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D7860-B509-4A33-B0F8-E1DD14CDA6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872F-EFC9-4D81-B27B-D4DD73586C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70A9-DB03-476E-86CD-282F47006D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D02D-D256-465D-97D8-5654876806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4635-CD12-40B1-8FD6-E57114D3C8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8654-2EFF-4C01-9CB0-4C253EDDF2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84859-A146-4ECF-AE4B-D8F61B3B1B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82AB1-EFCE-492E-8F25-AEAC0DD01A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34226-FEB3-4B69-B45E-574FB47D1B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EE144-4020-490F-A926-B9AB8796F4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CDEC4-44A7-4DD9-AD28-F6DA0A4B7E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B73AA-35E9-4850-97DB-96F721E179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26701-F9EE-44F2-930B-AFAEC77660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54b"/>
            </a:gs>
            <a:gs pos="100000">
              <a:srgbClr val="4b5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0628-FEC3-4952-B7C6-F0D544FF4106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wdc2002_46860" descr="14"/>
          <p:cNvPicPr/>
          <p:nvPr/>
        </p:nvPicPr>
        <p:blipFill>
          <a:blip r:embed="rId2"/>
          <a:stretch/>
        </p:blipFill>
        <p:spPr>
          <a:xfrm>
            <a:off x="4937040" y="6318360"/>
            <a:ext cx="4206960" cy="53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54b"/>
            </a:gs>
            <a:gs pos="100000">
              <a:srgbClr val="4b5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2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3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C111-6A28-435B-8D33-9C91640CAC5C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wdc2002_46860" descr="14"/>
          <p:cNvPicPr/>
          <p:nvPr/>
        </p:nvPicPr>
        <p:blipFill>
          <a:blip r:embed="rId2"/>
          <a:stretch/>
        </p:blipFill>
        <p:spPr>
          <a:xfrm>
            <a:off x="1295280" y="152280"/>
            <a:ext cx="6400800" cy="819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54b"/>
            </a:gs>
            <a:gs pos="100000">
              <a:srgbClr val="4b5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tro to Flash MX ActionScript and Server Communic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rian Robbi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rian@dubane.co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54b"/>
            </a:gs>
            <a:gs pos="100000">
              <a:srgbClr val="4b5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ying it all Together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o to Flash MX/Homesite/Brows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54b"/>
            </a:gs>
            <a:gs pos="100000">
              <a:srgbClr val="4b5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sources - Flash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ots of Book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pecial Edition Using Flash MX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lash MX ActionScript for Fun &amp; Gam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ailing Lis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lashcoders – http://chattyfig.figleaf.com/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ebsit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ttp://www.were-here.com/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54b"/>
            </a:gs>
            <a:gs pos="100000">
              <a:srgbClr val="4b5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sources - PHP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ebsi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ttp://www.php.net/ - THE resource for PHP development.  PERIOD!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ttp://www.phpbuilder.net/ - Also a good PHP sit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54b"/>
            </a:gs>
            <a:gs pos="100000">
              <a:srgbClr val="4b5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eyond WebDevC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wnload all the files her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ttp://www.dubane.com/cons/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anks for coming!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54b"/>
            </a:gs>
            <a:gs pos="100000">
              <a:srgbClr val="4b5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We Will Do Toda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tro to ActionScrip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mple PHP for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ying it all togeth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sourc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54b"/>
            </a:gs>
            <a:gs pos="100000">
              <a:srgbClr val="4b5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ypical Data Driven Sit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843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se ASP/Perl/PHP/etc to access databa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se scripts to create HTM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nd HTML to user for displa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f user wants a different view re-submit and server creates new displa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54b"/>
            </a:gs>
            <a:gs pos="100000">
              <a:srgbClr val="4b5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lash Data Driven Sit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51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se ASP/Perl/PHP/etc to access dat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cripts format data into Flash readable for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nd data to client machin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ent then formats data for displa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f user wants a different view, usually the client creates without contacting the serv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54b"/>
            </a:gs>
            <a:gs pos="100000">
              <a:srgbClr val="4b5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mparis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rver must create HTM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ust re-contact server for new view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sign for Least Common Denominator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o plug-ins need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08280" y="1941480"/>
            <a:ext cx="4028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rver only sends dat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sually don’t need to re-contact serv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sign for Flash, looks the same everywhe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ser must have Flas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54b"/>
            </a:gs>
            <a:gs pos="100000">
              <a:srgbClr val="4b5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tro to ActionScrip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o to Flash MX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54b"/>
            </a:gs>
            <a:gs pos="100000">
              <a:srgbClr val="4b5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ending Data w/ ActionScrip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o to Flash MX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54b"/>
            </a:gs>
            <a:gs pos="100000">
              <a:srgbClr val="4b5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ceiving Data w/ ActionScrip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54b"/>
            </a:gs>
            <a:gs pos="100000">
              <a:srgbClr val="4b5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imple PHP For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o to Homesi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14:12:53Z</dcterms:created>
  <dc:creator>Charlie Bass</dc:creator>
  <dc:description/>
  <dc:language>en-US</dc:language>
  <cp:lastModifiedBy>Stephanie Titony</cp:lastModifiedBy>
  <dcterms:modified xsi:type="dcterms:W3CDTF">2002-11-22T00:45:14Z</dcterms:modified>
  <cp:revision>15</cp:revision>
  <dc:subject/>
  <dc:title>PowerPoint Presentation</dc:title>
</cp:coreProperties>
</file>