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2C8CE-6401-432E-A5E4-619DA1A954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B9C94-A47E-4BED-A182-D7C56097B4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16F71-61C7-4EDF-B943-426AD69E3E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0B2C1-F36F-46F2-A236-94081629E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2B55-D857-481F-90AB-0B1F92BCFFF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9105-2280-4012-87F5-72EB71DC44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7EB8-329E-4221-BFB0-FC153B0EF2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83EC-C50B-4463-9C70-FD8115DF78A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5AEF-1FDD-4E91-BE46-29E38D1F73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1213-AA32-4115-AFD3-312710D74D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B0D7-2F3D-4144-B20D-990CDC6A37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3B8ED-F480-4A4D-9473-6DE628E545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DA1F-FCDD-4895-AEED-ACA3CA5A3C5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52FF-E3E8-4578-BE84-3E0373BF58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0788-DC01-4BDF-9A10-016940088E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BCB7-E621-4B1D-B8EE-85119E41D2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BBD4-FC62-4A87-A80B-EDE917CC96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1552E-FE5F-4887-B208-A6756CE65A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37F0F-7682-4A84-A88D-9CAC07B6D2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3A382-76EC-4282-BD74-7CC787410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9496E-8C94-483C-9162-0BF75821F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04ADD-BCFB-432D-855F-A6017552C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57F2-CA58-439F-A752-2B5F33DB8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859C-A774-4908-97B6-463F8CE8A9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1C4D-5ACE-4937-AC89-12851B3C11B5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" name="wdc2002_46860" descr="14"/>
          <p:cNvPicPr/>
          <p:nvPr/>
        </p:nvPicPr>
        <p:blipFill>
          <a:blip r:embed="rId2"/>
          <a:stretch/>
        </p:blipFill>
        <p:spPr>
          <a:xfrm>
            <a:off x="4937040" y="6318360"/>
            <a:ext cx="4206960" cy="53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ftr" idx="2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3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4FAB-F5AE-4DA0-B378-D1D34AF7240E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wdc2002_46860" descr="14"/>
          <p:cNvPicPr/>
          <p:nvPr/>
        </p:nvPicPr>
        <p:blipFill>
          <a:blip r:embed="rId2"/>
          <a:stretch/>
        </p:blipFill>
        <p:spPr>
          <a:xfrm>
            <a:off x="1295280" y="152280"/>
            <a:ext cx="6400800" cy="819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3822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dvanced Flash MX ActionScript and Database Communic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ian Robbin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ian@dubane.co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HP Form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 to Homesi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sources - Flas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ots of Book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pecial Edition Using Flash MX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lash MX ActionScript for Fun &amp; Gam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ailing Lis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lashcoders – http://chattyfig.figleaf.com/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bsi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ttp://www.were-here.com/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sources - PHP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ebsit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ttp://www.php.net/ - THE resource for PHP development.  PERIOD!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ttp://www.phpbuilder.net/ - Another good sit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eyond WebDevC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ownload all the files her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ttp://www.dubane.com/cons/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anks for coming!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hat We Will Do Toda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verview of our Projec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ook at ActionScri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ook at PHP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ying it all togeth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sourc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ypical Database Driven Site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434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se ASP/Perl/PHP/etc to access datab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se scripts to create HTM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nd HTML to user for displa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user wants a different view re-submit and server creates new displa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Flash Database Driven Si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51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se ASP/Perl/PHP/etc to access databa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cripts format data into Flash readable for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nd data to client machin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ent then formats data for displa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f user wants a different view, usually the client creates without contacting the serv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omparis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402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rver must create HTM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st re-contact server for new view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sign for Least Common Denominator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o plug-ins needed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08280" y="1941480"/>
            <a:ext cx="4028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rver only sends data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ually don’t need to re-contact serv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esign for Flash, looks the same everywhe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ser must have Flash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oday’s Projec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mple Contact Manage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Nam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Addres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hon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sers can update the dat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ok at ActionScrip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 to Flash M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nding Data w/ ActionScrip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 to Flash M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54b"/>
            </a:gs>
            <a:gs pos="100000">
              <a:srgbClr val="4b55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eceiving Data w/ ActionScrip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Go to Flash MX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8T14:12:53Z</dcterms:created>
  <dc:creator>Charlie Bass</dc:creator>
  <dc:description/>
  <dc:language>en-US</dc:language>
  <cp:lastModifiedBy>Stephanie Titony</cp:lastModifiedBy>
  <dcterms:modified xsi:type="dcterms:W3CDTF">2002-11-22T00:44:51Z</dcterms:modified>
  <cp:revision>18</cp:revision>
  <dc:subject/>
  <dc:title>PowerPoint Presentation</dc:title>
</cp:coreProperties>
</file>